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DF1-1019-4189-901C-C81141E3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84E-82F1-4B9D-805F-C8308141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F03-0CB1-4967-963A-876775F0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FAE-CDD4-4224-9BE5-648C734C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D6A7-3FEA-41FE-B360-88039A70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F927-B3AF-4D64-A818-926E0C22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88D8-EF36-4835-8870-D5C0A47D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495E-70E7-4577-9325-2616219F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65C1-FEC9-4D79-87A5-E0DFFEEC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A81B-61C0-4AFB-8EDF-C7B4675D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740D-E6AF-4141-8F80-0EAE853E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5C4-33BD-4C1D-BC46-B0342433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462E-7330-43DF-9211-36EEB7A5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B221-5991-46D4-A995-64B2CC4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42B1-3323-4C1C-9841-03872470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0046-46A5-4DC6-A745-A55CCB6C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3139-B017-437E-AE96-938BC2A0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8C1A-C42C-4346-81E2-E7308CFE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3984-929D-4017-A83A-5DB16707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B93C-B5D9-4270-8F91-1ADB702A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CF116-2EE6-4231-86F1-8F0FFD98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6115E-EBA4-414C-A750-439E7FA2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94B-3CD1-41B7-9E6E-7DDFB620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EF20-71A5-460B-BF16-0D97FE20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F093-D65D-4D53-8F1F-54C7AFB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8DF9-2971-44E5-B0F2-D24375CD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9C0BE-0BCE-474A-8252-57EE7B7E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A48E2-C591-4EB3-B35B-558ED10D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377E-928F-4344-803F-92D23707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B9F4-D8D6-4F58-96EA-FE3AD902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CBFC5-76FB-4C0C-AE14-10D74A96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FEA2-9921-4A36-B327-A48F1843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2B836-D00B-4901-A0A2-31355EFA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CAF-81C7-4FFF-B31A-15BFAA89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B8125-7B82-4AD4-9433-8D715602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41C02-94DE-4F65-A5DA-64979E03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C6342-2035-4D26-B8D1-34475F0A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A7B5-74A7-4089-B356-FB82239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61974-8390-47A2-98CC-9715A85E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8E5A2-4160-4641-A36C-1A7597D9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0A426-17DF-46AE-AAD5-FF5F4DCA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97974-E464-49F4-9651-A2919524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DCA32-ED9E-4421-8C5E-B1C8F56B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48316-99B6-4397-9F0B-E4498E3C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D0D-8701-4A6B-A232-3F63B4AB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11CBF-7264-4E9D-815E-9D5E449F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387D2-DE8A-43FD-9573-C494D688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23C9E-B3BD-46F0-A216-539F97BD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5732F-DBCB-430E-99DE-D8CD9588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4767-4DFD-4973-9680-3C24CC7B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40C7-9B56-4493-A610-74EDE69B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F0181-4C63-49CA-87DD-066D7D50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41601-B201-49F1-ACCF-2260C3AA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B48E5-46B6-4ADB-B003-FB5ECF02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E18BB-B8CC-4F0A-B4F5-3D27A513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D89-BB98-4E8E-BB42-D700BEA2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99438-2C4B-41EB-9513-CF8EDEBC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D5D-31A9-4914-8A2D-50910C79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637-83F8-4E30-9027-ADB9550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588-50A6-4A3E-9EFF-AFFA60C4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106D-E114-41B3-A601-9266A2BEFFE1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AED9-21B7-4B84-BB41-9183B6D32BA0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1f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D387-A71E-44B7-AA2A-E73D97BEAB86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9BC4-D774-4A68-8845-C392193D61A0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1A9F-E7F5-4ADC-ADBF-88F0DFA25AE8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D99C-1070-4E04-AF9A-51F5091C7ABC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6248-B672-4DBB-B1A5-6D2782FFBB66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E681-C27F-4370-98B8-F293889DA2A4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F0B9-BDDD-4C5E-B232-5B3E1EB8AD60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081D-2F45-4ECA-A485-64ABC7D241AF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041640" y="1365120"/>
            <a:ext cx="5651640" cy="2043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95480" y="3885840"/>
            <a:ext cx="601992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Gabbie, Heather, Whitney and Kendrick</a:t>
            </a: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21200"/>
            <a:ext cx="7248600" cy="1164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76320" y="1609200"/>
            <a:ext cx="76197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ACTING             HAITI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4" name="Curved Down Arrow 4"/>
          <p:cNvSpPr/>
          <p:nvPr/>
        </p:nvSpPr>
        <p:spPr>
          <a:xfrm>
            <a:off x="3048120" y="1905120"/>
            <a:ext cx="2209680" cy="106668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25" name="Curved Down Arrow 6"/>
          <p:cNvSpPr/>
          <p:nvPr/>
        </p:nvSpPr>
        <p:spPr>
          <a:xfrm rot="10800000">
            <a:off x="2971800" y="3809880"/>
            <a:ext cx="2209680" cy="106704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162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2133720" y="1577880"/>
            <a:ext cx="3809880" cy="3222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4"/>
          <a:stretch/>
        </p:blipFill>
        <p:spPr>
          <a:xfrm>
            <a:off x="4191120" y="3581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231" name="Bent Arrow 11"/>
          <p:cNvSpPr/>
          <p:nvPr/>
        </p:nvSpPr>
        <p:spPr>
          <a:xfrm>
            <a:off x="1219320" y="243828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2" name="Bent Arrow 12"/>
          <p:cNvSpPr/>
          <p:nvPr/>
        </p:nvSpPr>
        <p:spPr>
          <a:xfrm rot="5400000">
            <a:off x="6400800" y="236196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760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1217520" y="2362320"/>
            <a:ext cx="5792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146160" y="317520"/>
            <a:ext cx="7858080" cy="1163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560"/>
            <a:ext cx="72388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How can we improve the 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living conditions in Haiti?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8" name="Down Arrow 5"/>
          <p:cNvSpPr/>
          <p:nvPr/>
        </p:nvSpPr>
        <p:spPr>
          <a:xfrm>
            <a:off x="3505320" y="3886200"/>
            <a:ext cx="990360" cy="1219320"/>
          </a:xfrm>
          <a:prstGeom prst="down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43000" y="312408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52280" y="541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GOAL: Raise Awareness &amp; Money</a:t>
            </a:r>
            <a:endParaRPr b="0" lang="en-US" sz="36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9200"/>
            <a:ext cx="7543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Website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Write, Film, and Perform Play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Make Craft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Donation Boxe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752120"/>
            <a:ext cx="7238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search (Haiti, Earthquake, Charity)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velop 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sign Scrip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hearse and Film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reate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rop off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VD of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Live Performanc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ales of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Raised from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Given to Charit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en.wikipedia.org/wiki/2010_Haiti_earthquak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earthquake.com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softhouse.org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dec.org.uk/haiti-earthquake-facts-and-figur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webs.com/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8:17:18Z</dcterms:created>
  <dc:creator>Gabrielle-Ingrid Coffy</dc:creator>
  <dc:description/>
  <dc:language>en-US</dc:language>
  <cp:lastModifiedBy>Marek Beck</cp:lastModifiedBy>
  <dcterms:modified xsi:type="dcterms:W3CDTF">2012-02-29T18:40:31Z</dcterms:modified>
  <cp:revision>20</cp:revision>
  <dc:subject/>
  <dc:title>HaitiSOFTHOUS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_3x21DQpEn6ZJeeoi6AeYKSbGNpjnOB2g_OVE5Vj_bI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07933896141120930037</vt:lpwstr>
  </property>
  <property fmtid="{D5CDD505-2E9C-101B-9397-08002B2CF9AE}" pid="6" name="Google.Documents.RevisionId">
    <vt:lpwstr>00143209680243306779</vt:lpwstr>
  </property>
  <property fmtid="{D5CDD505-2E9C-101B-9397-08002B2CF9AE}" pid="7" name="Google.Documents.Tracking">
    <vt:lpwstr>true</vt:lpwstr>
  </property>
</Properties>
</file>