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63B-1FDC-4098-B751-677FA2D3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3B3-186E-4B8E-AF4E-4E28F50F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7B8-24B8-45F9-9FFD-96C4271F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E26-2CA3-4146-A990-A25B8E9B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3399-8C5F-4566-BBA6-94B520C2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B58A-704B-4363-85E2-ECF575DD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A862-21B8-400A-8F15-0CEF8534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782C-C183-4D10-8D81-204D6C78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911C-344F-4D8B-8E24-FFDFB0B5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DA85-EEE3-48EF-B995-269D1416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D201-FD88-4212-80E5-E66541C5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68B-E9F2-42D7-8EC0-494B2645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117F-4BEC-4BDE-B95B-B77F0C21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C466-50BD-4BB5-9E8F-6C67B88E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4128-68AB-4788-8979-D93E9895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2C90-6CA3-42F9-A4BC-840A2C70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6615-19A2-4837-8F81-0DE50290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DC314-1654-4408-B56B-EB90FDA3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B8F92-31E5-4446-BF6B-F18DA1D8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CC286-A536-4B5B-8AB7-B338E852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5BE86-4C07-447B-9D1B-922E7C2C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38A5C-96DE-45BD-87CE-034B4556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DD6-B2EC-46BB-8394-1606ED18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CDBC5-1C05-4F26-9A4C-F062AE07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41DB3-F810-4373-973A-019FD287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824A1-DA03-4A96-8C6B-3E6FCCEE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1F6AF-B32B-4BBD-B859-527BDCED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BB88E-E840-4F7B-A632-00B1F24B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C2E51-5731-4434-B5C9-FB7F8F8D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CD895-6430-4A31-BDCD-0B03207C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9185C-CB6D-4D0E-AE98-3739E08F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5AC6F-079F-4F14-B3AE-E5A2668A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FFBCC-94AE-483C-B5CD-B3CF8F09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E409-C9F7-4C86-80BC-6B91F3A8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9C485-3A73-4701-A340-9EC33302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352DC-0414-4FFE-9387-740B4D38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F0342-2E5D-4451-952C-7F7BF0A1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80F54-DABE-48E6-8109-12EFF1FE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8FA03-6750-434C-9DA0-23D3CA4F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61096-4D95-48D7-B5B5-43A5C7B9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A7BDC-BA49-486D-B94B-62BD9F0E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92C03-BE4D-4041-A202-D3E8A694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CC721-7651-4036-8731-8F9683BD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47FE9-142C-421F-A38F-AAD9B405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ABF-47F9-434F-B7C8-C01A432D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3F54D-8937-4B84-819C-C701E9D7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60E35-CC7F-462C-9BA4-68D0DE01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B5D4-9369-4D2C-95B9-CE05BAA3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62924-7050-43B6-B3EC-66EF7C91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C47A9-9AE1-419C-831A-CDB9EFB0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13382-D2D6-4907-AAAB-D0EC7796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A130D-A2C6-4B0A-9C12-E36EFB34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D124B-EB67-4B33-AFCD-73A002AB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CE038-5B72-45AD-8068-3C2BD657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F0419-76AE-4E42-BDE4-CE5C75EE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A4E-214C-4D60-A0AD-F8850216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64164-5E8F-4E8E-B7C4-9769A1D5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1BF-40AC-4370-8B52-0748D7B6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688-E79E-41F5-A081-5F4B3A42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01A-7AF1-4461-8F2E-4F46DF60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5A9F-65DF-4BF2-A172-C3D4C5E81375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75A7-6996-4B6A-BE8E-307C12062A0C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1f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3AF2-422F-404D-9424-096042559B2F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A1AB-7FE9-4699-B5E3-C54A2FD25065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DC8A-8BDA-4439-9BCA-D75427209959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9AA2-7EF1-4C12-A89C-042E79E02701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206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206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206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6167-1B6D-41A3-A1BE-C69B36789241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7C70-63C3-47E9-B94E-5F9C996BCE61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D849-1A9F-4DCB-9B42-9DDFDECCB1D2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26A3-0375-4FC9-B8ED-176C8C52DD90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041640" y="1365120"/>
            <a:ext cx="5651640" cy="2043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895480" y="3885840"/>
            <a:ext cx="6019920" cy="243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b05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Gabbie, Heather, Whitney and Kendrick</a:t>
            </a:r>
            <a:endParaRPr b="0" lang="en-US" sz="22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450720" y="3121200"/>
            <a:ext cx="7248600" cy="1164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76320" y="1609200"/>
            <a:ext cx="76197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ACTING             HAITI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24" name="Curved Down Arrow 4"/>
          <p:cNvSpPr/>
          <p:nvPr/>
        </p:nvSpPr>
        <p:spPr>
          <a:xfrm>
            <a:off x="3048120" y="1905120"/>
            <a:ext cx="2209680" cy="1066680"/>
          </a:xfrm>
          <a:custGeom>
            <a:avLst/>
            <a:gdLst>
              <a:gd name="textAreaLeft" fmla="*/ 452160 w 2209680"/>
              <a:gd name="textAreaRight" fmla="*/ 1623960 w 220968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5" hR="21600" stAng="10800000" swAng="5400000"/>
                <a:lnTo>
                  <a:pt x="11451" y="0"/>
                </a:lnTo>
                <a:arcTo wR="8845" hR="21600" stAng="-5400000" swAng="3466024"/>
                <a:lnTo>
                  <a:pt x="21319" y="16200"/>
                </a:lnTo>
                <a:lnTo>
                  <a:pt x="18993" y="21600"/>
                </a:lnTo>
                <a:lnTo>
                  <a:pt x="16105" y="16200"/>
                </a:lnTo>
                <a:lnTo>
                  <a:pt x="17409" y="16200"/>
                </a:lnTo>
                <a:arcTo wR="8845" hR="21600" stAng="-1933976" swAng="-3256617"/>
                <a:lnTo>
                  <a:pt x="10148" y="236"/>
                </a:lnTo>
                <a:arcTo wR="8845" hR="21600" stAng="-5609407" swAng="-5190593"/>
                <a:close/>
              </a:path>
              <a:path fill="darkenLess" w="21600" h="21600">
                <a:moveTo>
                  <a:pt x="0" y="21600"/>
                </a:moveTo>
                <a:arcTo wR="8845" hR="21600" stAng="10800000" swAng="5400000"/>
                <a:lnTo>
                  <a:pt x="8845" y="0"/>
                </a:lnTo>
                <a:arcTo wR="8845" hR="21600" stAng="-5400000" swAng="209407"/>
                <a:lnTo>
                  <a:pt x="10148" y="236"/>
                </a:lnTo>
                <a:arcTo wR="8845" hR="21600" stAng="-5609407" swAng="-5190593"/>
                <a:close/>
              </a:path>
            </a:pathLst>
          </a:cu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25" name="Curved Down Arrow 6"/>
          <p:cNvSpPr/>
          <p:nvPr/>
        </p:nvSpPr>
        <p:spPr>
          <a:xfrm rot="10800000">
            <a:off x="2971800" y="3809880"/>
            <a:ext cx="2209680" cy="1067040"/>
          </a:xfrm>
          <a:custGeom>
            <a:avLst/>
            <a:gdLst>
              <a:gd name="textAreaLeft" fmla="*/ 452160 w 2209680"/>
              <a:gd name="textAreaRight" fmla="*/ 1623960 w 22096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5" hR="21600" stAng="10800000" swAng="5400000"/>
                <a:lnTo>
                  <a:pt x="11451" y="0"/>
                </a:lnTo>
                <a:arcTo wR="8845" hR="21600" stAng="-5400000" swAng="3466024"/>
                <a:lnTo>
                  <a:pt x="21319" y="16200"/>
                </a:lnTo>
                <a:lnTo>
                  <a:pt x="18993" y="21600"/>
                </a:lnTo>
                <a:lnTo>
                  <a:pt x="16105" y="16200"/>
                </a:lnTo>
                <a:lnTo>
                  <a:pt x="17409" y="16200"/>
                </a:lnTo>
                <a:arcTo wR="8845" hR="21600" stAng="-1933976" swAng="-3256617"/>
                <a:lnTo>
                  <a:pt x="10148" y="236"/>
                </a:lnTo>
                <a:arcTo wR="8845" hR="21600" stAng="-5609407" swAng="-5190593"/>
                <a:close/>
              </a:path>
              <a:path fill="darkenLess" w="21600" h="21600">
                <a:moveTo>
                  <a:pt x="0" y="21600"/>
                </a:moveTo>
                <a:arcTo wR="8845" hR="21600" stAng="10800000" swAng="5400000"/>
                <a:lnTo>
                  <a:pt x="8845" y="0"/>
                </a:lnTo>
                <a:arcTo wR="8845" hR="21600" stAng="-5400000" swAng="209407"/>
                <a:lnTo>
                  <a:pt x="10148" y="236"/>
                </a:lnTo>
                <a:arcTo wR="8845" hR="21600" stAng="-5609407" swAng="-5190593"/>
                <a:close/>
              </a:path>
            </a:pathLst>
          </a:cu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162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2"/>
          <a:stretch/>
        </p:blipFill>
        <p:spPr>
          <a:xfrm>
            <a:off x="2133720" y="1577880"/>
            <a:ext cx="3809880" cy="3222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4"/>
          <a:stretch/>
        </p:blipFill>
        <p:spPr>
          <a:xfrm>
            <a:off x="4191120" y="3581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231" name="Bent Arrow 11"/>
          <p:cNvSpPr/>
          <p:nvPr/>
        </p:nvSpPr>
        <p:spPr>
          <a:xfrm>
            <a:off x="1219320" y="2438280"/>
            <a:ext cx="609480" cy="914400"/>
          </a:xfrm>
          <a:prstGeom prst="pie">
            <a:avLst/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32" name="Bent Arrow 12"/>
          <p:cNvSpPr/>
          <p:nvPr/>
        </p:nvSpPr>
        <p:spPr>
          <a:xfrm rot="5400000">
            <a:off x="6400800" y="2361960"/>
            <a:ext cx="609480" cy="914400"/>
          </a:xfrm>
          <a:prstGeom prst="pie">
            <a:avLst/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760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1217520" y="2362320"/>
            <a:ext cx="5792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146160" y="317520"/>
            <a:ext cx="7858080" cy="1163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560"/>
            <a:ext cx="72388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How can we improve the 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living conditions in Haiti?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38" name="Down Arrow 5"/>
          <p:cNvSpPr/>
          <p:nvPr/>
        </p:nvSpPr>
        <p:spPr>
          <a:xfrm>
            <a:off x="3505320" y="3886200"/>
            <a:ext cx="990360" cy="1219320"/>
          </a:xfrm>
          <a:prstGeom prst="downArrow">
            <a:avLst>
              <a:gd name="adj1" fmla="val 50000"/>
              <a:gd name="adj2" fmla="val 50017"/>
            </a:avLst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143000" y="312408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152280" y="5410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GOAL: Raise Awareness &amp; Money</a:t>
            </a:r>
            <a:endParaRPr b="0" lang="en-US" sz="36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6840" y="1609200"/>
            <a:ext cx="7543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Create Website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Write, Film, and Perform Play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Make Crafts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Create Donation Boxes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752120"/>
            <a:ext cx="7238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Research (Haiti, Earthquake, Charity) 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evelop Websit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esign Scrip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Rehearse and Film Pla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reate Craft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rop off Donation Box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Websit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VD of Pla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Live Performanc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ales of Craft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Money Raised from Donation Box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Money Given to Charit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en.wikipedia.org/wiki/2010_Haiti_earthquak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aitiearthquake.com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aitisofthouse.org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www.dec.org.uk/haiti-earthquake-facts-and-figur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www.webs.com/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8:17:18Z</dcterms:created>
  <dc:creator>Gabrielle-Ingrid Coffy</dc:creator>
  <dc:description/>
  <dc:language>en-US</dc:language>
  <cp:lastModifiedBy>Marek Beck</cp:lastModifiedBy>
  <dcterms:modified xsi:type="dcterms:W3CDTF">2012-02-29T18:40:31Z</dcterms:modified>
  <cp:revision>20</cp:revision>
  <dc:subject/>
  <dc:title>HaitiSOFTHOUSE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_3x21DQpEn6ZJeeoi6AeYKSbGNpjnOB2g_OVE5Vj_bI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PreviousRevisionId">
    <vt:lpwstr>07933896141120930037</vt:lpwstr>
  </property>
  <property fmtid="{D5CDD505-2E9C-101B-9397-08002B2CF9AE}" pid="6" name="Google.Documents.RevisionId">
    <vt:lpwstr>00143209680243306779</vt:lpwstr>
  </property>
  <property fmtid="{D5CDD505-2E9C-101B-9397-08002B2CF9AE}" pid="7" name="Google.Documents.Tracking">
    <vt:lpwstr>true</vt:lpwstr>
  </property>
</Properties>
</file>