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231-A6E2-4C02-B406-8C09E3BF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EC7-5DB0-4623-A545-FC20A014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304-03FC-439B-9588-B0A8047F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966-E2E9-4AD0-83E3-FD52A00A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BCDF-B24A-431C-BD24-86AA6E3B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34F1-19AB-4AFB-A058-F8646B88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2459-3EE4-44A2-A9A6-A4D0F37A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ACF5-1BD6-4941-9568-9144B265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7C7D-D35F-4054-9526-AF55874A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034F-8CE9-49E9-AEFA-3661C42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9850-8072-4387-9342-CF43067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76C-56BA-4198-9056-C4BC30CA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0A81-57FD-4A12-963B-09EB8E4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C6D9-3D06-4F20-BD8D-0928474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5F0E-80F2-49D3-BC7A-5FC81EC1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87FD-B437-4D75-BD81-DAD11572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7A7D-3373-46E3-9200-AB576881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C7C0-5189-4354-A2BB-DD30E1B0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8D17-8EBA-4042-8669-F964E0E2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DA97-8F14-4651-AC19-3720DB27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4406-E8F6-4F41-BC99-F1F917EC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C192-1A4D-47DA-809E-D601CFEA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729-0C0E-496E-A33A-26FAD565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939B-10E4-4BB5-8ECA-336AD89C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8EA7-15B4-4339-A497-C1C18F48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25E5-E93B-4C52-B3A5-855BA88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3CF4-6604-4079-8A12-8041F3F9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B3BC-CCFD-427F-8522-B9F8D3E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7A40-C47E-4B3C-ABBD-F54DAA50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AFB2-4110-49C6-BF7B-26723AFC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9B33-71D0-477C-AB12-19CA561A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AB76-9549-4BEF-BAD4-DD1330B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448A-E8E0-4996-AF7A-EE8682A8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E02-532F-414E-AC17-8E01CAA6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1993-8B1C-42AC-B26C-8EE720A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46FA-91E9-4605-969C-7B8CA62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F7F3-2CD7-4556-934C-84541611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8CDC-062C-4B46-9E52-EBAC46E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18F3-9650-4E95-8451-31D5E18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C171-BA22-4818-8F33-65AD619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B8F6-DCBE-4433-80B1-A956AF14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F929-0921-4B81-BFA0-F7DBC8FC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CBDE-E4D3-4285-9AAB-CF5FB868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287D-6FC3-4353-8501-7735C174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223-07B7-496B-A70F-20E99F0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B0FE-4212-4A7B-982E-BC73F7C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9B7E-47AA-4E47-8EE1-DABF7531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5320-6780-449B-812B-8F9321CF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2411-0207-40B3-ADE2-D66065E7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C457-571B-48A4-A9B1-B8EEFC12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6D6A-E185-42F2-90AB-D3AB827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2CFA-1F60-48A1-BE61-741CC24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90F2-7599-44F7-9597-E361EC6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A77DB-B0A3-4588-B83A-B5ABB579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3948-4A1D-4AA9-9A07-1E69F425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027-0118-46FE-93BD-A8F6F8C5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32688-4033-4AC8-AE58-A9E1F3AF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88B-6D84-45FA-B270-1709135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362-EF2E-4E45-A20C-E686CA27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752-9431-4DA5-8A77-C7058F9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694B-DD6D-4ACA-B7FE-F8C2207FA733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028-40C0-42FC-A3C9-426EADCEBB67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1f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055-3F36-4714-AF88-4FCF59058375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E23-1251-4E34-8486-C0E9A5DA0DF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61E-6818-4AB4-B2DC-33F67D39805D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31EC-9B22-48B6-9C8F-6C06498BC542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E510-63F8-48AF-9645-38E415F58BC6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3158-D2DA-479E-938E-A8A56AD87883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ACA7-C15C-42DD-8B35-196FD68B4799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0E7-184E-4E4C-BFAE-012A6BAEB103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041640" y="1365120"/>
            <a:ext cx="5651640" cy="2043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95480" y="3885840"/>
            <a:ext cx="60199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Gabbie, Heather, Whitney and Kendrick</a:t>
            </a: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21200"/>
            <a:ext cx="7248600" cy="1164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6320" y="1609200"/>
            <a:ext cx="76197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ACTING             HAITI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4" name="Curved Down Arrow 4"/>
          <p:cNvSpPr/>
          <p:nvPr/>
        </p:nvSpPr>
        <p:spPr>
          <a:xfrm>
            <a:off x="3048120" y="1905120"/>
            <a:ext cx="2209680" cy="106668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25" name="Curved Down Arrow 6"/>
          <p:cNvSpPr/>
          <p:nvPr/>
        </p:nvSpPr>
        <p:spPr>
          <a:xfrm rot="10800000">
            <a:off x="2971800" y="3809880"/>
            <a:ext cx="2209680" cy="106704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162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2133720" y="1577880"/>
            <a:ext cx="3809880" cy="322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4"/>
          <a:stretch/>
        </p:blipFill>
        <p:spPr>
          <a:xfrm>
            <a:off x="4191120" y="3581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Bent Arrow 11"/>
          <p:cNvSpPr/>
          <p:nvPr/>
        </p:nvSpPr>
        <p:spPr>
          <a:xfrm>
            <a:off x="1219320" y="243828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2" name="Bent Arrow 12"/>
          <p:cNvSpPr/>
          <p:nvPr/>
        </p:nvSpPr>
        <p:spPr>
          <a:xfrm rot="5400000">
            <a:off x="6400800" y="236196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760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7520" y="2362320"/>
            <a:ext cx="5792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46160" y="317520"/>
            <a:ext cx="7858080" cy="1163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560"/>
            <a:ext cx="72388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How can we improve the 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living conditions in Haiti?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8" name="Down Arrow 5"/>
          <p:cNvSpPr/>
          <p:nvPr/>
        </p:nvSpPr>
        <p:spPr>
          <a:xfrm>
            <a:off x="3505320" y="3886200"/>
            <a:ext cx="990360" cy="121932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31240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52280" y="541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GOAL: Raise Awareness &amp; Money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Website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Write, Film, and Perform Play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Make Craft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Donation Boxe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7521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search (Haiti, Earthquake, Charity)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velop 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sign Scrip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hearse and Film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reate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rop off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VD of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Live Performanc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ales of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Raised from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Given to Charit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en.wikipedia.org/wiki/2010_Haiti_earthquak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earthquake.com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softhouse.org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dec.org.uk/haiti-earthquake-facts-and-figur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webs.com/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17:18Z</dcterms:created>
  <dc:creator>Gabrielle-Ingrid Coffy</dc:creator>
  <dc:description/>
  <dc:language>en-US</dc:language>
  <cp:lastModifiedBy>Marek Beck</cp:lastModifiedBy>
  <dcterms:modified xsi:type="dcterms:W3CDTF">2012-02-29T18:40:31Z</dcterms:modified>
  <cp:revision>20</cp:revision>
  <dc:subject/>
  <dc:title>HaitiSOFTHOUS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_3x21DQpEn6ZJeeoi6AeYKSbGNpjnOB2g_OVE5Vj_bI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7933896141120930037</vt:lpwstr>
  </property>
  <property fmtid="{D5CDD505-2E9C-101B-9397-08002B2CF9AE}" pid="6" name="Google.Documents.RevisionId">
    <vt:lpwstr>00143209680243306779</vt:lpwstr>
  </property>
  <property fmtid="{D5CDD505-2E9C-101B-9397-08002B2CF9AE}" pid="7" name="Google.Documents.Tracking">
    <vt:lpwstr>true</vt:lpwstr>
  </property>
</Properties>
</file>