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4FF-6371-4BAA-B7D9-8441DD6D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1EF-5DE1-456C-A6DA-6199CA39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8CD-C24E-473D-B5A0-6A030352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586-0548-4E66-8435-A5D5881D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1F3B-B0DD-45C6-BF60-652360BF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0B10-705C-449A-BE6A-9201009C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BE80-A8F8-4D05-8010-7112DC6B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1E12-46F1-4EF4-8849-9A609E80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6B66-D843-4400-BA90-7DC92EDF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698A-86E7-4E24-9491-7C63A456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442A-C788-4CA3-913D-E08D70E8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7D1-D68B-421F-888B-5D55B3DA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FAD5-E85F-4C35-BC3B-61B2D3FE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037D-05D4-4016-A035-660D4FD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11B8-F8B6-4AD0-A932-9B84F6E9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6D6D-548F-41B1-B669-9C74A800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5151-F5DF-4875-A675-428B5196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E43E-EF95-43C0-9CD3-20205B86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DC947-373D-44E5-847F-94BC4F6D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7C6F-0F30-417A-8D5C-8E19D4FC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6C2E-5CCF-4E71-A0AC-DDB732E0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3DF3-C44F-4E8D-92A5-D8144950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240-319B-43C6-8363-35C65F4B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470D-85FF-424D-AB07-1F5FBB45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0448D-5D4F-4E8E-8E9A-C145F9FC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033A-AF88-4E84-ACA5-A3198C6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A29F6-8D71-477F-9AED-F2EC7B56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FE54-E4AC-4F21-91B7-C3AB999D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1676-E4E2-43EB-91BD-903D443E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6ED2-0918-44EE-8046-041CA9F6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C56D4-6E02-48C9-B1BE-9AE9AAAD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A30E0-BB2B-4374-84EA-7076A9C6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1C3D0-BA2B-4BD7-ACD8-906BA635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DAA-4BA8-492F-AAC1-95F08505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08F47-A050-4FBE-BBAF-6D224A2E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D5140-C2A1-4EA5-8FAF-E41B2E37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80795-234A-43DD-8A5B-FEDA80DE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C7D9B-BA33-46F7-9E1A-48D0ED38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1BAC-6D00-4DB8-A41B-E8B933EB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4215-62CA-40F2-8850-28FCF7F1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06CB1-B676-4C1D-A805-8CA42823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A2118-2978-4B01-BA88-C95EB87C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DD28-46DA-4E9F-B84F-3B91809A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9AF15-C297-4F12-9614-C60C8DFB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857-0696-491E-AD2A-1ADA41EC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63F21-035A-49E2-9D27-8CB85570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95080-B501-427C-99C1-E95A8C45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C044-92B3-41BD-BEBE-AD91AE5C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32B4F-4553-4479-B8B4-7FFA5AF0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DE6A5-88F9-46BF-BDFD-0B746B1C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FD85-B025-4DA6-9BDD-014A1A76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2ED7-1B76-421A-854C-32F6AF4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1467-A3DD-4E78-A10E-AE57E1F5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C4A9-1153-42F7-B6D9-22067464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024B5-88C1-4836-A941-5C4D4D52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78B-5D25-4406-A94A-DE01F7CD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BFA8B-E8C8-4F4F-8A38-D77B78CC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894-9348-46B2-BC04-2721FCE7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CEB-3258-4C1B-A686-991F6C7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B83-5E3A-4018-8522-FADD83A3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E01D-90D1-4645-A7A0-182CAF1584F1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6413-6C7D-47BC-8DBF-DEE4138B8179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1f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7CBD-4A97-442F-BAD2-2D39EC0BE757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3443-D2A4-4172-9782-9849BDD995A4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99AC-70A3-4B24-B1DC-BDC49EDE60E7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69AF-5DA9-4B43-A8F9-8971C366EE5B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2ACD-65E8-4542-B8E3-E1E4EC061D50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66AF-CF84-4178-B1B9-FF242CCD7F13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9E71-2143-44DC-8B23-C101C9130F6D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D95B-118F-471B-93EB-1E73EB78FEC5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041640" y="1365120"/>
            <a:ext cx="5651640" cy="2043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95480" y="3885840"/>
            <a:ext cx="601992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Gabbie, Heather, Whitney and Kendrick</a:t>
            </a: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21200"/>
            <a:ext cx="7248600" cy="1164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76320" y="1609200"/>
            <a:ext cx="76197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ACTING             HAITI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4" name="Curved Down Arrow 4"/>
          <p:cNvSpPr/>
          <p:nvPr/>
        </p:nvSpPr>
        <p:spPr>
          <a:xfrm>
            <a:off x="3048120" y="1905120"/>
            <a:ext cx="2209680" cy="106668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25" name="Curved Down Arrow 6"/>
          <p:cNvSpPr/>
          <p:nvPr/>
        </p:nvSpPr>
        <p:spPr>
          <a:xfrm rot="10800000">
            <a:off x="2971800" y="3809880"/>
            <a:ext cx="2209680" cy="106704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162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2133720" y="1577880"/>
            <a:ext cx="3809880" cy="3222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4"/>
          <a:stretch/>
        </p:blipFill>
        <p:spPr>
          <a:xfrm>
            <a:off x="4191120" y="3581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231" name="Bent Arrow 11"/>
          <p:cNvSpPr/>
          <p:nvPr/>
        </p:nvSpPr>
        <p:spPr>
          <a:xfrm>
            <a:off x="1219320" y="243828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2" name="Bent Arrow 12"/>
          <p:cNvSpPr/>
          <p:nvPr/>
        </p:nvSpPr>
        <p:spPr>
          <a:xfrm rot="5400000">
            <a:off x="6400800" y="236196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760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1217520" y="2362320"/>
            <a:ext cx="5792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146160" y="317520"/>
            <a:ext cx="7858080" cy="1163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560"/>
            <a:ext cx="72388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How can we improve the 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living conditions in Haiti?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8" name="Down Arrow 5"/>
          <p:cNvSpPr/>
          <p:nvPr/>
        </p:nvSpPr>
        <p:spPr>
          <a:xfrm>
            <a:off x="3505320" y="3886200"/>
            <a:ext cx="990360" cy="1219320"/>
          </a:xfrm>
          <a:prstGeom prst="down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43000" y="312408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52280" y="541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GOAL: Raise Awareness &amp; Money</a:t>
            </a:r>
            <a:endParaRPr b="0" lang="en-US" sz="36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9200"/>
            <a:ext cx="7543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Website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Write, Film, and Perform Play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Make Craft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Donation Boxe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752120"/>
            <a:ext cx="7238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search (Haiti, Earthquake, Charity)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velop 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sign Scrip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hearse and Film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reate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rop off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VD of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Live Performanc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ales of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Raised from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Given to Charit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en.wikipedia.org/wiki/2010_Haiti_earthquak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earthquake.com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softhouse.org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dec.org.uk/haiti-earthquake-facts-and-figur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webs.com/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8:17:18Z</dcterms:created>
  <dc:creator>Gabrielle-Ingrid Coffy</dc:creator>
  <dc:description/>
  <dc:language>en-US</dc:language>
  <cp:lastModifiedBy>Marek Beck</cp:lastModifiedBy>
  <dcterms:modified xsi:type="dcterms:W3CDTF">2012-02-29T18:40:31Z</dcterms:modified>
  <cp:revision>20</cp:revision>
  <dc:subject/>
  <dc:title>HaitiSOFTHOUS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_3x21DQpEn6ZJeeoi6AeYKSbGNpjnOB2g_OVE5Vj_bI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07933896141120930037</vt:lpwstr>
  </property>
  <property fmtid="{D5CDD505-2E9C-101B-9397-08002B2CF9AE}" pid="6" name="Google.Documents.RevisionId">
    <vt:lpwstr>00143209680243306779</vt:lpwstr>
  </property>
  <property fmtid="{D5CDD505-2E9C-101B-9397-08002B2CF9AE}" pid="7" name="Google.Documents.Tracking">
    <vt:lpwstr>true</vt:lpwstr>
  </property>
</Properties>
</file>