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9AA-0D1B-4368-A38B-FF4E50F1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EA0-0D4B-4C10-94A8-E4B97465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E03-4FDC-409C-A6AC-18DCEF9A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4C0-77B7-480E-8E01-61B2EB82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1C13-344B-4FD4-8F4E-6C5DAC86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56B8-A48C-4BE9-962C-3A513EF2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142E-02EE-49C6-AC9B-9EB172E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1EEE-A3C6-424A-A14D-53F31907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2E3D-6981-48C9-9505-B23746D1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1345-FFE7-49ED-868F-8FC0E5D4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EDF4-C6BC-49F4-B549-E0A61176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AE6-71B2-49A7-89AF-0092EBA9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81AB-8B93-42DD-A342-34BF10C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1259-F692-4E63-B2B4-AB4A6594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11DE-FAFB-4641-A61E-9392930A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EF84-4141-4D92-9FDC-8442D1F2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596B-6351-444B-806D-162AD46C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47CE-6160-4B86-A1E9-B8646A86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72CD-7F73-4BFC-A80F-44833334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6C3B-0C85-4E68-B68A-11079797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B0FA-6CB5-48F4-A8DA-59CA85B1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82D9-EB43-4B73-8542-EB9DD6ED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B5A-02A3-4EC2-9537-909F7658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3434-53AA-43B4-95D8-08334269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F208-4501-4C10-BE61-4203B91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BC92-5B1F-4D32-B4CD-89820912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CB5B-0F52-4B4B-9716-082D0D4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9236-7B6C-4BB0-805D-DECB2A5C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FBA0-709D-4511-AFE7-C8C4EED4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D3710-AC9B-48DB-924E-5827F3F7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031D8-0544-48DB-9335-16A044AC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ECF0-E551-4A67-BF86-3D36AA34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1DDA1-FE03-42BA-A78C-8ADECFD7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557-E70E-4B13-8FCD-7DE4F0EE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08A5-842E-42B1-931B-BF7E90F2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DEB2E-4331-4A6B-B7E1-ABE6FF25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44292-6C62-45AB-957D-CF62C82B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BED3-8096-4CB3-9D79-8E6AB79E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C88F-D801-4039-962A-E0AF299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9BDDD-6134-4458-9EB2-21B27CB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8833-06A5-48D3-A9E2-B1F3C9D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778EF-13AD-4683-B192-3720C80B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5758-A736-4565-85B0-CA0F58A7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E372E-A89B-418D-A0A3-698F9D5D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272-60A2-4E2F-B9DF-3061299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0D45-D061-4F7D-B895-1674DA18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0B54A-766C-445C-BA88-E4DE652D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CA494-B76F-4954-B64D-6D6B60CC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99DB-241C-4854-9FF3-A5DA0FD6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85AB2-9AB4-44EF-ADE1-1393063F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D213A-2549-48C7-A4A6-E87F66F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95C82-5F59-4FCC-A5EE-E5334C0B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0AC42-AF8C-4E70-8EB2-10F6B3EC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AD2F9-5C05-4B5E-8C04-B4A16C9D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A068E-829A-4F3D-B506-A1EEBC78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0D4-DE23-4595-8197-B1FE4A6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34BCD-25BC-4013-87BB-1168FB31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F99-78F2-4994-A33B-996D3326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63F-260F-470E-8222-614CDA52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787-24E1-4B04-9669-2857EB78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E970-E9C1-4E36-B404-CD18DF3D06EC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13E3-CD08-4F80-A13E-B6E7309AE531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1f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C0CB-6837-4C7E-893A-F4D3EEAA657A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2759-72E9-4FFB-890C-BC2F06BBFD5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6B43-327D-4735-9095-A3D48708F09A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9221-18D8-4F93-8CA5-2797E12268DF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206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206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0BBA-73EB-4F5E-B392-1CE7DC8B970B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45C8-6CC8-4DA2-94F9-485432A9A2AD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b05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05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B98D-86C1-4D17-A395-52F1485AFFCC}" type="datetime">
              <a:rPr b="0" lang="en-US" sz="1000" spc="-1" strike="noStrike">
                <a:solidFill>
                  <a:srgbClr val="69e416"/>
                </a:solidFill>
                <a:latin typeface="Trebuchet MS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e41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6869-ED05-49B3-A64C-78CF7647A643}" type="slidenum">
              <a:rPr b="0" lang="en-US" sz="1100" spc="-1" strike="noStrike">
                <a:solidFill>
                  <a:srgbClr val="69e41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041640" y="1365120"/>
            <a:ext cx="5651640" cy="20433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95480" y="3885840"/>
            <a:ext cx="601992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Gabbie, Heather, Whitney and Kendrick</a:t>
            </a:r>
            <a:endParaRPr b="0" lang="en-US" sz="22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21200"/>
            <a:ext cx="7248600" cy="1164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6320" y="1609200"/>
            <a:ext cx="76197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ACTING             HAITI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24" name="Curved Down Arrow 4"/>
          <p:cNvSpPr/>
          <p:nvPr/>
        </p:nvSpPr>
        <p:spPr>
          <a:xfrm>
            <a:off x="3048120" y="1905120"/>
            <a:ext cx="2209680" cy="106668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25" name="Curved Down Arrow 6"/>
          <p:cNvSpPr/>
          <p:nvPr/>
        </p:nvSpPr>
        <p:spPr>
          <a:xfrm rot="10800000">
            <a:off x="2971800" y="3809880"/>
            <a:ext cx="2209680" cy="1067040"/>
          </a:xfrm>
          <a:custGeom>
            <a:avLst/>
            <a:gdLst>
              <a:gd name="textAreaLeft" fmla="*/ 452160 w 2209680"/>
              <a:gd name="textAreaRight" fmla="*/ 1623960 w 22096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45" hR="21600" stAng="10800000" swAng="5400000"/>
                <a:lnTo>
                  <a:pt x="11451" y="0"/>
                </a:lnTo>
                <a:arcTo wR="8845" hR="21600" stAng="-5400000" swAng="3466024"/>
                <a:lnTo>
                  <a:pt x="21319" y="16200"/>
                </a:lnTo>
                <a:lnTo>
                  <a:pt x="18993" y="21600"/>
                </a:lnTo>
                <a:lnTo>
                  <a:pt x="16105" y="16200"/>
                </a:lnTo>
                <a:lnTo>
                  <a:pt x="17409" y="16200"/>
                </a:lnTo>
                <a:arcTo wR="8845" hR="21600" stAng="-1933976" swAng="-3256617"/>
                <a:lnTo>
                  <a:pt x="10148" y="236"/>
                </a:lnTo>
                <a:arcTo wR="8845" hR="21600" stAng="-5609407" swAng="-5190593"/>
                <a:close/>
              </a:path>
              <a:path fill="darkenLess" w="21600" h="21600">
                <a:moveTo>
                  <a:pt x="0" y="21600"/>
                </a:moveTo>
                <a:arcTo wR="8845" hR="21600" stAng="10800000" swAng="5400000"/>
                <a:lnTo>
                  <a:pt x="8845" y="0"/>
                </a:lnTo>
                <a:arcTo wR="8845" hR="21600" stAng="-5400000" swAng="209407"/>
                <a:lnTo>
                  <a:pt x="10148" y="236"/>
                </a:lnTo>
                <a:arcTo wR="8845" hR="21600" stAng="-5609407" swAng="-5190593"/>
                <a:close/>
              </a:path>
            </a:pathLst>
          </a:cu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162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2"/>
          <a:stretch/>
        </p:blipFill>
        <p:spPr>
          <a:xfrm>
            <a:off x="2133720" y="1577880"/>
            <a:ext cx="3809880" cy="3222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4"/>
          <a:stretch/>
        </p:blipFill>
        <p:spPr>
          <a:xfrm>
            <a:off x="4191120" y="3581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Bent Arrow 11"/>
          <p:cNvSpPr/>
          <p:nvPr/>
        </p:nvSpPr>
        <p:spPr>
          <a:xfrm>
            <a:off x="1219320" y="243828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2" name="Bent Arrow 12"/>
          <p:cNvSpPr/>
          <p:nvPr/>
        </p:nvSpPr>
        <p:spPr>
          <a:xfrm rot="5400000">
            <a:off x="6400800" y="2361960"/>
            <a:ext cx="609480" cy="914400"/>
          </a:xfrm>
          <a:prstGeom prst="pie">
            <a:avLst/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760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1217520" y="2362320"/>
            <a:ext cx="5792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146160" y="317520"/>
            <a:ext cx="7858080" cy="1163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560"/>
            <a:ext cx="723888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How can we improve the 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living conditions in Haiti?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</p:txBody>
      </p:sp>
      <p:sp>
        <p:nvSpPr>
          <p:cNvPr id="238" name="Down Arrow 5"/>
          <p:cNvSpPr/>
          <p:nvPr/>
        </p:nvSpPr>
        <p:spPr>
          <a:xfrm>
            <a:off x="3505320" y="3886200"/>
            <a:ext cx="990360" cy="1219320"/>
          </a:xfrm>
          <a:prstGeom prst="downArrow">
            <a:avLst>
              <a:gd name="adj1" fmla="val 50000"/>
              <a:gd name="adj2" fmla="val 50017"/>
            </a:avLst>
          </a:prstGeom>
          <a:gradFill rotWithShape="0">
            <a:gsLst>
              <a:gs pos="0">
                <a:srgbClr val="ff92b4"/>
              </a:gs>
              <a:gs pos="100000">
                <a:srgbClr val="ff5094"/>
              </a:gs>
            </a:gsLst>
            <a:lin ang="5400000"/>
          </a:gradFill>
          <a:ln w="11520">
            <a:solidFill>
              <a:srgbClr val="ff388c"/>
            </a:solidFill>
            <a:miter/>
          </a:ln>
          <a:effectLst>
            <a:outerShdw dist="25560" dir="5400000" blurRad="0" rotWithShape="0">
              <a:srgbClr val="9b1e53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31240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52280" y="5410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GOAL: Raise Awareness &amp; Money</a:t>
            </a:r>
            <a:endParaRPr b="0" lang="en-US" sz="36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Website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Write, Film, and Perform Play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Make Craft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rebuchet MS"/>
              </a:rPr>
              <a:t>Create Donation Boxes</a:t>
            </a:r>
            <a:endParaRPr b="0" lang="en-US" sz="40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7521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search (Haiti, Earthquake, Charity) 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velop 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esign Script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Rehearse and Film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Create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rop off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Websit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DVD of Pla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Live Performanc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Sales of Craft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Raised from Donation Box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Money Given to Charity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en.wikipedia.org/wiki/2010_Haiti_earthquake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earthquake.com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aitisofthouse.org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dec.org.uk/haiti-earthquake-facts-and-figures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69e416"/>
              </a:buClr>
              <a:buSzPct val="7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rebuchet MS"/>
              </a:rPr>
              <a:t>http://www.webs.com/</a:t>
            </a:r>
            <a:endParaRPr b="0" lang="en-US" sz="2600" spc="-1" strike="noStrike">
              <a:solidFill>
                <a:srgbClr val="00b05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17:18Z</dcterms:created>
  <dc:creator>Gabrielle-Ingrid Coffy</dc:creator>
  <dc:description/>
  <dc:language>en-US</dc:language>
  <cp:lastModifiedBy>Marek Beck</cp:lastModifiedBy>
  <dcterms:modified xsi:type="dcterms:W3CDTF">2012-02-29T18:40:31Z</dcterms:modified>
  <cp:revision>20</cp:revision>
  <dc:subject/>
  <dc:title>HaitiSOFTHOUSE Proj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_3x21DQpEn6ZJeeoi6AeYKSbGNpjnOB2g_OVE5Vj_bI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07933896141120930037</vt:lpwstr>
  </property>
  <property fmtid="{D5CDD505-2E9C-101B-9397-08002B2CF9AE}" pid="6" name="Google.Documents.RevisionId">
    <vt:lpwstr>00143209680243306779</vt:lpwstr>
  </property>
  <property fmtid="{D5CDD505-2E9C-101B-9397-08002B2CF9AE}" pid="7" name="Google.Documents.Tracking">
    <vt:lpwstr>true</vt:lpwstr>
  </property>
</Properties>
</file>