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4F2-EA3D-4286-BEBC-48730938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081-109A-4EBD-9715-1A878A44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2E3-555D-443E-91F0-A8A5D0FB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9F57-8798-4D8D-99FC-B787FA4B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9F72-5D8F-4FF6-A5F8-0A7B3029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E703-7279-49F2-84AC-49947645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5A22-553E-47EC-A91A-435A0966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B294-72CF-4840-BD95-465664FC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F916-6342-432E-A58B-1B19952C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E76E-525F-4442-9616-7BB2531E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250F-BB82-423C-AF53-A2B29568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790-4535-420D-93CD-045C974F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E057-4F1C-4864-B4E6-3B7CA3E6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2036-01CB-419B-986A-A49A961B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9764-45B0-4B12-AF4C-DF1D2B7E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AC8A-DAC6-42B9-B050-5A6A081B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5EF4-99C3-49F7-93AD-78E3B4FA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24D82-B324-4289-BC64-49EDD08F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33941-2D3B-430E-9302-905F9E7E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F908D-678B-4518-BAEA-CDECC501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FB343-3BB8-4624-84A1-96070DD7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04710-2D1A-470B-824D-F23FBCF1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BAB-2CC1-4A72-9153-47264986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23EF2-29F7-46CF-AA70-CC5A751C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B5622-FA1A-499D-876F-2A382A1B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BD43B-2C12-4BD8-B631-071389B2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6E934-06D5-416D-9491-6655C4EF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FFDE3-9522-4FA8-A5D8-0D3CF868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706D2-590C-4EBC-874C-382EA264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D3880-3B2D-48AF-BB07-A0F17317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6374D-C67A-42A4-86F9-44D2E93C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F2D82-E79F-4B90-BA7A-56562FEE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BCAF1-3DD5-438D-833B-03701480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FE5-DA81-4149-988A-CF7A4F33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271B0-329F-4B9F-B061-E192D71A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AA73C-2170-4C53-8C1D-956B9610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323FA-F9DA-439A-995B-461BD5D4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B40BC-C4C0-4837-8053-B1EC5381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6BE98-F054-460F-A0EC-044CFAB1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0B39D-F339-4CD3-B094-CF91866A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80CAC-A6E9-4CEC-9AA4-4CF04232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7CC0B-4FBD-4458-95EC-CDD71208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0BAC7-9781-4379-A1C5-62484E53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AB2CA-CA6F-457E-88B5-4BF94A83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4AF3-DA7B-4A6F-BA1B-E8BC5F09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8EDE6-7B81-4651-A64A-B6ABC13C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B37BD-E62F-4131-8698-083724F1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55EE7-28AB-4323-BEF5-58FF65FF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B74CA-79DE-4EE7-A6AC-7430E32E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C9B4F-48D9-4BD7-B2CB-57914818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48527-F336-49A0-B699-B9E5805F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1AE34-58A6-48A2-89F9-D7AB3EEA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3FFD5-87E5-4DCD-97C2-99D12366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534DB-5C16-4118-9F12-6C1EEC63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0CAE1-3F89-451C-8F4C-4B23BB63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E6F4-7CB3-4879-95DB-F203AE59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4996D-36CD-4918-BD72-8E640C27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B3B-4B77-423A-A6A4-B262A0FD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7A45-74F6-472A-84E9-4F00BD80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EEA-28CA-4DDF-BA7B-4D61F2CF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86F0-D973-4876-811E-5331E7B2E0A2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94E7-A1DC-4DCF-9BC0-8284DA1F531B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1f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47AB-6A11-4C15-BFAD-DDBC1F38381C}" type="datetime">
              <a:rPr b="0" lang="en-US" sz="1000" spc="-1" strike="noStrike">
                <a:solidFill>
                  <a:srgbClr val="ffffff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5ADB-620B-49B6-BD88-31957305B245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831C-4C36-41F0-88F5-62C95287856F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C3C8-F0CF-48AA-8750-BD8B6AD4F2CB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206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206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206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27DF-7ECD-416A-A1A8-D293C66FA961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D5BC-DBFD-4A4C-8684-75DA4B19EEAE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0499-2F03-4DA6-960F-0880392E5B26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3662-FC00-49B7-BA32-9D8301644397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3041640" y="1365120"/>
            <a:ext cx="5651640" cy="20433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895480" y="3885840"/>
            <a:ext cx="6019920" cy="243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b05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Gabbie, Heather, Whitney and Kendrick</a:t>
            </a:r>
            <a:endParaRPr b="0" lang="en-US" sz="22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450720" y="3121200"/>
            <a:ext cx="7248600" cy="11649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    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76320" y="1609200"/>
            <a:ext cx="76197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ACTING             HAITI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24" name="Curved Down Arrow 4"/>
          <p:cNvSpPr/>
          <p:nvPr/>
        </p:nvSpPr>
        <p:spPr>
          <a:xfrm>
            <a:off x="3048120" y="1905120"/>
            <a:ext cx="2209680" cy="1066680"/>
          </a:xfrm>
          <a:custGeom>
            <a:avLst/>
            <a:gdLst>
              <a:gd name="textAreaLeft" fmla="*/ 452160 w 2209680"/>
              <a:gd name="textAreaRight" fmla="*/ 1623960 w 2209680"/>
              <a:gd name="textAreaTop" fmla="*/ 142920 h 1066680"/>
              <a:gd name="textAreaBottom" fmla="*/ 9237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5" hR="21600" stAng="10800000" swAng="5400000"/>
                <a:lnTo>
                  <a:pt x="11451" y="0"/>
                </a:lnTo>
                <a:arcTo wR="8845" hR="21600" stAng="-5400000" swAng="3466024"/>
                <a:lnTo>
                  <a:pt x="21319" y="16200"/>
                </a:lnTo>
                <a:lnTo>
                  <a:pt x="18993" y="21600"/>
                </a:lnTo>
                <a:lnTo>
                  <a:pt x="16105" y="16200"/>
                </a:lnTo>
                <a:lnTo>
                  <a:pt x="17409" y="16200"/>
                </a:lnTo>
                <a:arcTo wR="8845" hR="21600" stAng="-1933976" swAng="-3256617"/>
                <a:lnTo>
                  <a:pt x="10148" y="236"/>
                </a:lnTo>
                <a:arcTo wR="8845" hR="21600" stAng="-5609407" swAng="-5190593"/>
                <a:close/>
              </a:path>
              <a:path fill="darkenLess" w="21600" h="21600">
                <a:moveTo>
                  <a:pt x="0" y="21600"/>
                </a:moveTo>
                <a:arcTo wR="8845" hR="21600" stAng="10800000" swAng="5400000"/>
                <a:lnTo>
                  <a:pt x="8845" y="0"/>
                </a:lnTo>
                <a:arcTo wR="8845" hR="21600" stAng="-5400000" swAng="209407"/>
                <a:lnTo>
                  <a:pt x="10148" y="236"/>
                </a:lnTo>
                <a:arcTo wR="8845" hR="21600" stAng="-5609407" swAng="-5190593"/>
                <a:close/>
              </a:path>
            </a:pathLst>
          </a:cu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54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25" name="Curved Down Arrow 6"/>
          <p:cNvSpPr/>
          <p:nvPr/>
        </p:nvSpPr>
        <p:spPr>
          <a:xfrm rot="10800000">
            <a:off x="2971800" y="3809880"/>
            <a:ext cx="2209680" cy="1067040"/>
          </a:xfrm>
          <a:custGeom>
            <a:avLst/>
            <a:gdLst>
              <a:gd name="textAreaLeft" fmla="*/ 452160 w 2209680"/>
              <a:gd name="textAreaRight" fmla="*/ 1623960 w 220968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5" hR="21600" stAng="10800000" swAng="5400000"/>
                <a:lnTo>
                  <a:pt x="11451" y="0"/>
                </a:lnTo>
                <a:arcTo wR="8845" hR="21600" stAng="-5400000" swAng="3466024"/>
                <a:lnTo>
                  <a:pt x="21319" y="16200"/>
                </a:lnTo>
                <a:lnTo>
                  <a:pt x="18993" y="21600"/>
                </a:lnTo>
                <a:lnTo>
                  <a:pt x="16105" y="16200"/>
                </a:lnTo>
                <a:lnTo>
                  <a:pt x="17409" y="16200"/>
                </a:lnTo>
                <a:arcTo wR="8845" hR="21600" stAng="-1933976" swAng="-3256617"/>
                <a:lnTo>
                  <a:pt x="10148" y="236"/>
                </a:lnTo>
                <a:arcTo wR="8845" hR="21600" stAng="-5609407" swAng="-5190593"/>
                <a:close/>
              </a:path>
              <a:path fill="darkenLess" w="21600" h="21600">
                <a:moveTo>
                  <a:pt x="0" y="21600"/>
                </a:moveTo>
                <a:arcTo wR="8845" hR="21600" stAng="10800000" swAng="5400000"/>
                <a:lnTo>
                  <a:pt x="8845" y="0"/>
                </a:lnTo>
                <a:arcTo wR="8845" hR="21600" stAng="-5400000" swAng="209407"/>
                <a:lnTo>
                  <a:pt x="10148" y="236"/>
                </a:lnTo>
                <a:arcTo wR="8845" hR="21600" stAng="-5609407" swAng="-5190593"/>
                <a:close/>
              </a:path>
            </a:pathLst>
          </a:cu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162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2"/>
          <a:stretch/>
        </p:blipFill>
        <p:spPr>
          <a:xfrm>
            <a:off x="2133720" y="1577880"/>
            <a:ext cx="3809880" cy="3222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3962520" cy="3200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"/>
          <p:cNvPicPr/>
          <p:nvPr/>
        </p:nvPicPr>
        <p:blipFill>
          <a:blip r:embed="rId4"/>
          <a:stretch/>
        </p:blipFill>
        <p:spPr>
          <a:xfrm>
            <a:off x="4191120" y="358128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231" name="Bent Arrow 11"/>
          <p:cNvSpPr/>
          <p:nvPr/>
        </p:nvSpPr>
        <p:spPr>
          <a:xfrm>
            <a:off x="1219320" y="2438280"/>
            <a:ext cx="609480" cy="914400"/>
          </a:xfrm>
          <a:prstGeom prst="pie">
            <a:avLst/>
          </a:pr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54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32" name="Bent Arrow 12"/>
          <p:cNvSpPr/>
          <p:nvPr/>
        </p:nvSpPr>
        <p:spPr>
          <a:xfrm rot="5400000">
            <a:off x="6400800" y="2361960"/>
            <a:ext cx="609480" cy="914400"/>
          </a:xfrm>
          <a:prstGeom prst="pie">
            <a:avLst/>
          </a:pr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760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1217520" y="2362320"/>
            <a:ext cx="5792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146160" y="317520"/>
            <a:ext cx="7858080" cy="1163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560"/>
            <a:ext cx="723888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How can we improve the 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living conditions in Haiti?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38" name="Down Arrow 5"/>
          <p:cNvSpPr/>
          <p:nvPr/>
        </p:nvSpPr>
        <p:spPr>
          <a:xfrm>
            <a:off x="3505320" y="3886200"/>
            <a:ext cx="990360" cy="1219320"/>
          </a:xfrm>
          <a:prstGeom prst="downArrow">
            <a:avLst>
              <a:gd name="adj1" fmla="val 50000"/>
              <a:gd name="adj2" fmla="val 50017"/>
            </a:avLst>
          </a:pr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54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143000" y="3124080"/>
            <a:ext cx="601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152280" y="5410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GOAL: Raise Awareness &amp; Money</a:t>
            </a:r>
            <a:endParaRPr b="0" lang="en-US" sz="3600" spc="-1" strike="noStrike">
              <a:solidFill>
                <a:srgbClr val="00b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6840" y="1609200"/>
            <a:ext cx="7543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Create Website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Write, Film, and Perform Play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Make Crafts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Create Donation Boxes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752120"/>
            <a:ext cx="7238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Research (Haiti, Earthquake, Charity) 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evelop Websit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esign Scrip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Rehearse and Film Play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reate Craft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rop off Donation Boxe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9810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Websit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VD of Play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Live Performanc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ales of Craft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Money Raised from Donation Boxe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Money Given to Charity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ttp://en.wikipedia.org/wiki/2010_Haiti_earthquak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aitiearthquake.com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aitisofthouse.org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ttp://www.dec.org.uk/haiti-earthquake-facts-and-figure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ttp://www.webs.com/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8:17:18Z</dcterms:created>
  <dc:creator>Gabrielle-Ingrid Coffy</dc:creator>
  <dc:description/>
  <dc:language>en-US</dc:language>
  <cp:lastModifiedBy>Marek Beck</cp:lastModifiedBy>
  <dcterms:modified xsi:type="dcterms:W3CDTF">2012-02-29T18:40:31Z</dcterms:modified>
  <cp:revision>20</cp:revision>
  <dc:subject/>
  <dc:title>HaitiSOFTHOUSE Proj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_3x21DQpEn6ZJeeoi6AeYKSbGNpjnOB2g_OVE5Vj_bI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PreviousRevisionId">
    <vt:lpwstr>07933896141120930037</vt:lpwstr>
  </property>
  <property fmtid="{D5CDD505-2E9C-101B-9397-08002B2CF9AE}" pid="6" name="Google.Documents.RevisionId">
    <vt:lpwstr>00143209680243306779</vt:lpwstr>
  </property>
  <property fmtid="{D5CDD505-2E9C-101B-9397-08002B2CF9AE}" pid="7" name="Google.Documents.Tracking">
    <vt:lpwstr>true</vt:lpwstr>
  </property>
</Properties>
</file>